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323-8A01-4C77-9136-10CB0F0A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D08-D865-4E3C-8652-92F0407A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B22-6966-48C0-9DDE-0490D8B6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305-8383-46F6-940F-EA9F5EC0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CC3-F960-46F6-9BCB-AA34B7C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598-009B-4AA7-A664-4A70BA57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CCB-2EF3-4C6B-B5D3-BDC83D48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076-8280-4834-A267-7927B4C6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460-E99F-426A-B6F7-D446E89D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F6A-597B-4B84-9731-D486F6B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ACD-D15D-432B-82FF-BCE579B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21B-777B-47DE-BF8D-7BDA5A9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D22E-F1F4-4279-B61E-E199FA40B9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844640"/>
            <a:ext cx="4321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 the end of this session, you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derstand the term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rn of the different ways we can communicate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now how we connect to the Internet and what is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95092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989000"/>
            <a:ext cx="432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dwidth tells us the rate at which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transmit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wn the communications line in a given period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2637000"/>
            <a:ext cx="33116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4292640"/>
            <a:ext cx="331164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285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581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558972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sually measured in Bits Per Second (bps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16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bandwidth, th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quick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will flow along the li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3068640"/>
            <a:ext cx="5761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loaded quic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 is downloade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nection is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icker respons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23763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91628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a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onnection typ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vailable to us when we want to access the services from the Internet… Each one has a different BANDWID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716280"/>
            <a:ext cx="7921440" cy="215568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PSTN : Public Switched Telephon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Uses traditional telephone system to allow access to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Dial Up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 Communic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844640"/>
            <a:ext cx="7921440" cy="185076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ISDN : Integrated Services Digital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upports Videoconferencing, faxes and voice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Users still must dial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High speed digital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206960"/>
            <a:ext cx="7921440" cy="185076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ADSL : Asymmetric Digital Subscriber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Is known as ‘Broadband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Is permanently switched on, no need for dial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Has a high band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necting to The 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844640"/>
            <a:ext cx="7921440" cy="435312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Single users can connect to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Hardware and Software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As well as a PC –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Internet Service Prov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ISP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Browser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Telecommunications line e.g. ISDN, AD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Century Gothic"/>
              </a:rPr>
              <a:t>Modem/Broadband Modem/ISDN adap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40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773360"/>
            <a:ext cx="4753080" cy="377424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o connect 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al up using ISP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odem converts signals from computer so it can travel along communications line to I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SP provides connection to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549360"/>
            <a:ext cx="82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necting to The 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8:41:56Z</dcterms:created>
  <dc:creator>cbelshaw438</dc:creator>
  <dc:description/>
  <dc:language>en-US</dc:language>
  <cp:lastModifiedBy>debs</cp:lastModifiedBy>
  <dcterms:modified xsi:type="dcterms:W3CDTF">2008-05-29T15:06:40Z</dcterms:modified>
  <cp:revision>13</cp:revision>
  <dc:subject/>
  <dc:title>Slide 1</dc:title>
</cp:coreProperties>
</file>